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C39-DFCB-46D9-AACC-148AA6F5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9372-4DA6-48CB-849E-08192AE3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is PowerPoint presentation is to give a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Wisconsin PDP planning and how mentors and others may assist the initial educator with developing their pl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meant to teach professional educators how to write a PD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CD52-915F-4CCF-9815-459AEBB0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60DF-9F41-4398-9749-EF4BDCA7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B433-7993-4FE3-A1B7-B5C805B5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CE9D-BF65-4880-8D25-A309DD64D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0D53-918A-4C32-AA93-6B3AA926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BF77-11E1-4BE9-A7E2-FFD546EE3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25D7-2CFD-4C35-B12B-2EDD403A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ing a goal requires the author to first articulate what s/he will learn (knowledge, skills, and dispositions) and how this will apply so that a desired result happens with student lea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the volunteer’s descriptions, can the group write a goal that includes Part 1 and Part 2? Ask participants if they can create a goal statement from the interview demonst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6A6D-4ADF-40ED-AD8D-8DC039EC9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973-A2B5-4EEE-AED4-D6B23E07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5A6-E9DB-400A-8F5B-3CBA1AEF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626F-9544-4E9B-8F9B-572D9F82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C867-5F21-481E-BAEB-C7853712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418-8B4D-4B18-B014-1121E8F8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1CE-5874-4A41-BB8F-0FD29E87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85A-5D15-4E40-A7AE-61D26736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1F9-0CC7-41DC-B55A-EA62C5A3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755-B0AF-4E16-913D-BDC2C48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D8F-D4C6-448F-B26E-4BDF2A12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095-EFEE-498D-B3B6-321B679D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8D7-4192-4E54-8658-92A71F4A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B6B-3746-4463-9D13-F71C318B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B3B-EE98-4371-97B6-CEE05F3D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123-A4FB-4C36-9949-A18CA8B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F71-B96E-405F-8362-EFB34E1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A221-A78D-4A57-B35D-A6ABAA833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88620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ng, Writing, and Reviewing the PD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cy Marsh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marsho@stritch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-410-44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676520" y="838080"/>
            <a:ext cx="6553080" cy="28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echnical"/>
              </a:rPr>
              <a:t>THE</a:t>
            </a:r>
            <a:endParaRPr b="1" lang="en-US" sz="3200" spc="1" strike="noStrike">
              <a:ln w="1908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echnical"/>
              <a:ea typeface="Technic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echnical"/>
              </a:rPr>
              <a:t>PROFESSIONAL</a:t>
            </a:r>
            <a:endParaRPr b="1" lang="en-US" sz="3200" spc="1" strike="noStrike">
              <a:ln w="1908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echnical"/>
              <a:ea typeface="Technic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echnical"/>
              </a:rPr>
              <a:t>DEVELOPMENT PLAN</a:t>
            </a:r>
            <a:endParaRPr b="1" lang="en-US" sz="3200" spc="1" strike="noStrike">
              <a:ln w="1908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echnical"/>
              <a:ea typeface="Technic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, Timelines, Collaboration of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ctivities that extend throughout the licensure 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for Initial Edu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for Professional Edu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estimated timelines f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collaborators on som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: Yea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3 team members for your review 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administrator, 1 peer, 1 IHE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PDP to team no later than Jan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3 team member signature form to DPI by M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implementing your pl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collecting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pring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ch y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4114400000[1]"/>
          <p:cNvPicPr/>
          <p:nvPr/>
        </p:nvPicPr>
        <p:blipFill>
          <a:blip r:embed="rId1"/>
          <a:stretch/>
        </p:blipFill>
        <p:spPr>
          <a:xfrm>
            <a:off x="7543800" y="4495680"/>
            <a:ext cx="9716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III. Annual Review of the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30040" y="2057400"/>
            <a:ext cx="738324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Years 2,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esponsibility of the Educ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save it; goes to team the 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each spring prior to final year. 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V. Successful Completion of the Plan</a:t>
            </a:r>
            <a:br>
              <a:rPr sz="3200"/>
            </a:br>
            <a:r>
              <a:rPr b="1" lang="en-US" sz="3200" spc="-1" strike="noStrike" u="sng">
                <a:solidFill>
                  <a:srgbClr val="6600ff"/>
                </a:solidFill>
                <a:uFillTx/>
                <a:latin typeface="Arial"/>
              </a:rPr>
              <a:t>Written in fall of yea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472428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and Reflect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of Successful Comple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638680" y="2438280"/>
          <a:ext cx="32641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438280"/>
                    <a:ext cx="3264120" cy="307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5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ummary and Reflection Statement Includ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the achievement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oal and any changes mad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your goal throughout the cy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nalysis of indicators of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and analysis of your professional growth and how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ed your students’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Documentation of Successful Completion of the Pl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elective. Choose quality over quant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 3-5 pieces of evidence of growth over the licensing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 at least some evidence for each; professional growth and student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6715-3F8B-446F-AB78-033A5D73DC3F}" type="slidenum"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reflection (evaluating what you know, how you know it, and why you know it) are critical components of the documenta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Key questions to keep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ta or artifacts are you going to collect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tifacts will help demonstrate your learning and the impact on y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6394-39CD-4869-94AB-32A22350B370}" type="slidenum"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3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331e"/>
                </a:solidFill>
                <a:latin typeface="Arial"/>
              </a:rPr>
              <a:t>Documentation</a:t>
            </a:r>
            <a:br>
              <a:rPr sz="3600"/>
            </a:br>
            <a:r>
              <a:rPr b="0" lang="en-US" sz="3200" spc="-1" strike="noStrike">
                <a:solidFill>
                  <a:srgbClr val="15331e"/>
                </a:solidFill>
                <a:latin typeface="Arial"/>
              </a:rPr>
              <a:t>Label all items for your review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Evidence may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of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f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ance at professional meetings-with reflection of what you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y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s, diaries or published 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research projec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course work with evidenc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assignments outside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elebrationlearning"/>
          <p:cNvPicPr/>
          <p:nvPr/>
        </p:nvPicPr>
        <p:blipFill>
          <a:blip r:embed="rId10"/>
          <a:srcRect l="0" t="0" r="0" b="6891"/>
          <a:stretch/>
        </p:blipFill>
        <p:spPr>
          <a:xfrm>
            <a:off x="6781680" y="2590920"/>
            <a:ext cx="1752840" cy="2361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0A04-A0C5-48EE-AA17-23ACFA1408F0}" type="slidenum"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DP Team at Verifica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5 or last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3 persons trained to be on a PDP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itial Educators: IHE, Administrator, P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fessional Educators: 3 Peers from you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P Verification Teams must be given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py o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oal Approv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py of Verification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py of Verification Approv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py of your completed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pies of your evidence (3-5 pie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I WEBSITES FOR EDU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pi.wi.gov/tepdl/pdp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 Resources for the PDP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P Educator Tool Kits provide background and guidance to assist the educator with the PDP process.  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P Initial Educator Tool Ki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flection is the first step in writing a PDP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elf-Reflection on the Ten Wisconsin Teaching Standar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elf-Reflection on the Seven Wisconsin Administrator Standard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able forms for the PDP process are availabl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P Writing Form/Template   fillable - For developing a PD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P Goal Approval Form   fillable - Used by initial educators only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P Verification Form   fillable - For PDP Team verification of PDP comple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Description of School &amp; Teaching Situation (5 par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current teaching/pupil service or administrativ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number of years in the curren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location of y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opulation dem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SS SITE for public schools http://dpi.wi.gov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nclude district/build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Description of the Goal (2 part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what you will learn and apply to impact your growth (what will you do that you haven’t done before?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effect of that growth on student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“ I will ________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…so that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MPj04331790000[1]"/>
          <p:cNvPicPr/>
          <p:nvPr/>
        </p:nvPicPr>
        <p:blipFill>
          <a:blip r:embed="rId1"/>
          <a:stretch/>
        </p:blipFill>
        <p:spPr>
          <a:xfrm>
            <a:off x="5181480" y="4572000"/>
            <a:ext cx="20574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Rationale for the Goal (3 par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ituation (How does the goal link to this situatio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out the standards that apply to your goal (use wording from standa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Plan for Assessing the Go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2 part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ist methods to assess your growth </a:t>
            </a:r>
            <a:r>
              <a:rPr b="0" lang="en-US" sz="3200" spc="-1" strike="noStrike" u="sng">
                <a:solidFill>
                  <a:srgbClr val="fa2c67"/>
                </a:solidFill>
                <a:uFillTx/>
                <a:latin typeface="Arial"/>
              </a:rPr>
              <a:t>(think of what you will be doing differently; change in your deliv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ist methods to assess the effect of the growth on student learning </a:t>
            </a:r>
            <a:r>
              <a:rPr b="0" lang="en-US" sz="3200" spc="-1" strike="noStrike">
                <a:solidFill>
                  <a:srgbClr val="fa2c67"/>
                </a:solidFill>
                <a:latin typeface="Arial"/>
              </a:rPr>
              <a:t>(formal, informal assessments, socio-emotional, behavioral, academic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: The Plan for Implementation of the  PDP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6a000"/>
                </a:solidFill>
                <a:latin typeface="Arial"/>
              </a:rPr>
              <a:t>Objectives</a:t>
            </a:r>
            <a:br>
              <a:rPr sz="4000"/>
            </a:br>
            <a:r>
              <a:rPr b="0" lang="en-US" sz="4000" spc="-1" strike="noStrike">
                <a:solidFill>
                  <a:srgbClr val="c6a000"/>
                </a:solidFill>
                <a:latin typeface="Arial"/>
              </a:rPr>
              <a:t>Activities</a:t>
            </a:r>
            <a:br>
              <a:rPr sz="4000"/>
            </a:br>
            <a:r>
              <a:rPr b="0" lang="en-US" sz="4000" spc="-1" strike="noStrike">
                <a:solidFill>
                  <a:srgbClr val="c6a000"/>
                </a:solidFill>
                <a:latin typeface="Arial"/>
              </a:rPr>
              <a:t>Timelines in the Cycle</a:t>
            </a:r>
            <a:br>
              <a:rPr sz="4000"/>
            </a:br>
            <a:r>
              <a:rPr b="0" lang="en-US" sz="4000" spc="-1" strike="noStrike">
                <a:solidFill>
                  <a:srgbClr val="c6a000"/>
                </a:solidFill>
                <a:latin typeface="Arial"/>
              </a:rPr>
              <a:t>Collabor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gingerbread_man2"/>
          <p:cNvPicPr/>
          <p:nvPr/>
        </p:nvPicPr>
        <p:blipFill>
          <a:blip r:embed="rId1"/>
          <a:stretch/>
        </p:blipFill>
        <p:spPr>
          <a:xfrm>
            <a:off x="152280" y="0"/>
            <a:ext cx="217656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Target"/>
          <p:cNvPicPr/>
          <p:nvPr/>
        </p:nvPicPr>
        <p:blipFill>
          <a:blip r:embed="rId2"/>
          <a:stretch/>
        </p:blipFill>
        <p:spPr>
          <a:xfrm>
            <a:off x="6400800" y="3048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228600" y="3505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80880" y="3429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/ Professional edu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7010280" y="213372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794040" y="514656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971800" y="464832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inimum of 2 overall statements connected to the goal (not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200400" y="571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6858000" y="57913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grow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2 level bridge.jpg"/>
          <p:cNvPicPr/>
          <p:nvPr/>
        </p:nvPicPr>
        <p:blipFill>
          <a:blip r:embed="rId3"/>
          <a:stretch/>
        </p:blipFill>
        <p:spPr>
          <a:xfrm>
            <a:off x="2666880" y="1676520"/>
            <a:ext cx="33530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ne objective on gaining professional  knowledge &amp; skills (professional grow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a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6a000"/>
                </a:solidFill>
                <a:latin typeface="Arial"/>
              </a:rPr>
              <a:t>Possible activities: Courses, workshops, study groups, in-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ne objective on how you will assess &amp; analyze data (effects/results on student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6:56:42Z</dcterms:created>
  <dc:creator>Cardinal Stritch University</dc:creator>
  <dc:description/>
  <dc:language>en-US</dc:language>
  <cp:lastModifiedBy>Rachel Schemelin</cp:lastModifiedBy>
  <dcterms:modified xsi:type="dcterms:W3CDTF">2011-05-11T17:23:20Z</dcterms:modified>
  <cp:revision>8</cp:revision>
  <dc:subject/>
  <dc:title>Reflecting, Writing, and Reviewing the PDP Presented by: Nancy Marsho ndmarsho@stritch.edu 414-410-4491</dc:title>
</cp:coreProperties>
</file>